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775-A1D9-4E89-8780-37B6F8C4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DB2-7BB1-49D9-AC37-99DA3F09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9B9-28B5-480F-AD2D-98FC6842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254-70B5-463D-868C-5E1D715C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85EC-33AF-47B5-8C4B-E0615942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A7EC-F938-4E0E-8B26-4FE91EDC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6CB6-F986-41B2-990B-D124FB20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0F73-A921-4295-867C-B8DE66F0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1B5B-FC88-47EC-B785-3EAD3377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606C-DEC0-40F0-BCAC-E50E3BB4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C561-5972-4925-9208-A71DE074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BC8-2914-41B8-8243-F50B89A2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62F0-3BAF-4934-BD49-14681D21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A12E-93B7-4B37-851C-0104A437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8562-B2AB-44EB-BC46-DB572F8B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8DEC-7C8E-48CE-982D-E33919BA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F5D0-45E3-4FD6-8341-4242F119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46A-B685-4E91-8471-B934E95D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A24-E4FC-441B-961C-F475A55E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CA1-A75F-4E46-9E1E-5EA42CED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C0B-27E8-4C4A-A003-2481B0AE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155-8D80-4C1A-B3C3-69FEE77C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F7A-369A-490D-9F68-2CE91AC0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990-BE59-4AF4-A47F-42A63F76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1133-E01B-465F-8470-CCD50FBB3D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0EBE-ACDC-4A74-B943-D6AAD1AB2E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274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, ТУРИЗМА И МОЛОДЕЖНОЙ ПОЛИТИКИ РОССИЙСКОЙ ФЕДЕРАЦИИ</a:t>
            </a: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МИНИСТЕРСТВО ОБРАЗОВАНИЯ И НАУКИ РОССИЙСКОЙ ФЕДЕРАЦИИ</a:t>
            </a: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</a:t>
            </a: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III этап V летней Спартакиады учащихся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5-27.05.2011 г.                    г. Сочи ст. ФГУП «ЮГ СПОРТ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754380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III этап V летней Спартакиады учащихся России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85880" y="2286000"/>
          <a:ext cx="7499160" cy="3870360"/>
        </p:xfrm>
        <a:graphic>
          <a:graphicData uri="http://schemas.openxmlformats.org/drawingml/2006/table">
            <a:tbl>
              <a:tblPr/>
              <a:tblGrid>
                <a:gridCol w="3257640"/>
                <a:gridCol w="1825560"/>
                <a:gridCol w="1208160"/>
                <a:gridCol w="120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делег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 Н/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аксим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Мис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кадрам 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Егиазар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Хавж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Ровен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Лебед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ган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Лыт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Мальц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123</cp:lastModifiedBy>
  <dcterms:modified xsi:type="dcterms:W3CDTF">2011-05-27T09:53:09Z</dcterms:modified>
  <cp:revision>16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